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03D-C570-48E5-A0C0-2B3C57B6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77F-F65B-4277-B779-FD2E3011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80A-3868-4F6D-806D-FFC34B86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19B-9CBF-4978-864B-8A51659C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C8C-AED2-4BE7-8966-BB7D8F5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70D-A712-4326-A465-1D2E396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ED1-1748-4B4C-A9AA-ED715FE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939-9F6F-48CF-9C03-9666DB93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C75-5E1C-4278-917A-B797C019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D7E-109A-4CD6-B7B7-F8B99D4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969-D456-4590-814B-7B3ED74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34E-B92A-4ED7-B7C0-F5D78D2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A3F-746D-4629-8CE5-679E8A710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today.msnbc.msn.com/id/40853908/ns/today-entertainment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kWLCXZjSF0&amp;feature=relate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mynews24.net/wp-content/uploads/2011/01/teen-mom-2..jpg"/>
          <p:cNvPicPr/>
          <p:nvPr/>
        </p:nvPicPr>
        <p:blipFill>
          <a:blip r:embed="rId1"/>
          <a:stretch/>
        </p:blipFill>
        <p:spPr>
          <a:xfrm>
            <a:off x="1676520" y="1550880"/>
            <a:ext cx="6029280" cy="4114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6480" y="390600"/>
            <a:ext cx="9124920" cy="1554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-28800" y="6172200"/>
            <a:ext cx="94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81000" y="82872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jourd’hui je vai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l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es fausses réalités dans l’émission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élévision Teen Mom. J’ai observés que l’émission des problé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ers exagére beauc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 flipH="1">
            <a:off x="45360" y="641664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 rot="5400000">
            <a:off x="4769640" y="3275640"/>
            <a:ext cx="78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zuri1.com/wp-content/uploads/amber-portwood-teen-mom__opt__opt1__oPt.jpg"/>
          <p:cNvPicPr/>
          <p:nvPr/>
        </p:nvPicPr>
        <p:blipFill>
          <a:blip r:embed="rId1"/>
          <a:stretch/>
        </p:blipFill>
        <p:spPr>
          <a:xfrm>
            <a:off x="5715000" y="429264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6" descr=""/>
          <p:cNvPicPr/>
          <p:nvPr/>
        </p:nvPicPr>
        <p:blipFill>
          <a:blip r:embed="rId2"/>
          <a:stretch/>
        </p:blipFill>
        <p:spPr>
          <a:xfrm>
            <a:off x="-914400" y="5931000"/>
            <a:ext cx="7753320" cy="1042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990720" y="23623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iva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today.msnbc.msn.com/id/40853908/ns/today-entertainment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mber Portwood gagné $280,000 pour un anné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990720" y="380880"/>
            <a:ext cx="708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ssi, J’ai observes que l’émission furer exagére beaucoup.  Furer enter Gary et Amb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t présente souv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'est la violence domestique, si elle était réelle de la loi s'en mêl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232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Gary et Ambers Lutt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-180360" y="3809880"/>
            <a:ext cx="96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waveish.com/iwave/images/24/o-amber-portwood-encouraged-to-fight-gary-shirley-on-teen-mom-by-mtv-report-claims.jpg"/>
          <p:cNvPicPr/>
          <p:nvPr/>
        </p:nvPicPr>
        <p:blipFill>
          <a:blip r:embed="rId2"/>
          <a:stretch/>
        </p:blipFill>
        <p:spPr>
          <a:xfrm>
            <a:off x="1865160" y="2590920"/>
            <a:ext cx="4886640" cy="2762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 rot="5400000">
            <a:off x="4353840" y="2289240"/>
            <a:ext cx="921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85800" y="9907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ssi, J’ai observes que l’émission l’education exagére beaucoup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lon la loi, vous devez être à l'école, sauf si vous êtes diplômé ou ayant atteint l'âge de dix-huit ; mais dans l’émission Teen Mom, adolescents abandonnent l'école dès l'âge de se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-250920" y="5486400"/>
            <a:ext cx="108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pooporchocolateblogs.com/wp-content/uploads/2010/09/mtv-teen-mom.jpg"/>
          <p:cNvPicPr/>
          <p:nvPr/>
        </p:nvPicPr>
        <p:blipFill>
          <a:blip r:embed="rId1"/>
          <a:stretch/>
        </p:blipFill>
        <p:spPr>
          <a:xfrm>
            <a:off x="2039760" y="3200400"/>
            <a:ext cx="5064480" cy="3257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 rot="5400000">
            <a:off x="-4389480" y="3612240"/>
            <a:ext cx="97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28880" y="22334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juste tres exemples de fausse réalités dans l’émission de télévision Teen Mom.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sais qu'il ya beaucoup plus, ce ne sont que quelques exe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1.bp.blogspot.com/_XmYwA_GdPeo/TM6Fs_TeGKI/AAAAAAAAL2A/ko87nu-v9sg/s1600/teen-mom03.jpg"/>
          <p:cNvPicPr/>
          <p:nvPr/>
        </p:nvPicPr>
        <p:blipFill>
          <a:blip r:embed="rId1"/>
          <a:stretch/>
        </p:blipFill>
        <p:spPr>
          <a:xfrm>
            <a:off x="0" y="5310360"/>
            <a:ext cx="2057400" cy="154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ages.buddytv.com/articles/teen-mom.jpg"/>
          <p:cNvPicPr/>
          <p:nvPr/>
        </p:nvPicPr>
        <p:blipFill>
          <a:blip r:embed="rId2"/>
          <a:stretch/>
        </p:blipFill>
        <p:spPr>
          <a:xfrm>
            <a:off x="2022480" y="5310360"/>
            <a:ext cx="2244600" cy="15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christina718.files.wordpress.com/2010/10/teen-mom.jpg"/>
          <p:cNvPicPr/>
          <p:nvPr/>
        </p:nvPicPr>
        <p:blipFill>
          <a:blip r:embed="rId3"/>
          <a:stretch/>
        </p:blipFill>
        <p:spPr>
          <a:xfrm>
            <a:off x="4267080" y="5310360"/>
            <a:ext cx="2405160" cy="154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www.fancast.com/blogs/files/2010/11/teen-mom-amber2.jpg"/>
          <p:cNvPicPr/>
          <p:nvPr/>
        </p:nvPicPr>
        <p:blipFill>
          <a:blip r:embed="rId4"/>
          <a:stretch/>
        </p:blipFill>
        <p:spPr>
          <a:xfrm>
            <a:off x="6672240" y="5310360"/>
            <a:ext cx="2471760" cy="159516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4" descr=""/>
          <p:cNvPicPr/>
          <p:nvPr/>
        </p:nvPicPr>
        <p:blipFill>
          <a:blip r:embed="rId5"/>
          <a:stretch/>
        </p:blipFill>
        <p:spPr>
          <a:xfrm>
            <a:off x="1828800" y="695160"/>
            <a:ext cx="529740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5:59:14Z</dcterms:created>
  <dc:creator>A satisfied Microsoft Office User</dc:creator>
  <dc:description/>
  <dc:language>en-US</dc:language>
  <cp:lastModifiedBy>A satisfied Microsoft Office User</cp:lastModifiedBy>
  <dcterms:modified xsi:type="dcterms:W3CDTF">2011-02-25T16:54:43Z</dcterms:modified>
  <cp:revision>16</cp:revision>
  <dc:subject/>
  <dc:title>PowerPoint Presentation</dc:title>
</cp:coreProperties>
</file>